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252-B824-441C-B8C9-13E47026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71D6-F503-47A9-97BE-7FC6F38A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39F0-3126-4860-8782-14566A3F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1B8D-6B99-4A0F-A23B-3616D37F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88ED-3F3E-45B9-AD93-40E685FF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56D4-39EB-47DB-8044-90B6CD3D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0EC9-C8C8-4129-8579-EDF2464F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4662-0C27-4241-83FA-54E4EAA0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8D35-D9E7-46E9-A103-FAD0BA62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19EC-A471-4313-93A7-0DE177C8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BA28-38E2-4E96-956E-13501C5E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B2B-83FD-4E7E-86A9-5A189E74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78AD-9C01-4A91-885C-F1E67A38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E721-6482-4D47-A416-B6693008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753C-D47B-4C40-A951-9E0FA3AF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D505-1E3A-4E28-8886-4D252103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D542-9FC1-4128-BAA9-AB40E9DB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F673-C7B7-4018-9BB3-1D1DDBE3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D59-C57D-43EA-9926-CDEC9D15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FE7-0501-4F0D-91E4-B58A6AC5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BA50-DAE6-46C0-8190-1FC046B3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A89D-FD97-41B3-B793-5147E0FB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3AB1-13A5-47C7-AE11-E5393B0C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3C3-5C82-4539-B527-65B0C5E6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D4EA-9823-490E-8201-317BEE3ADE7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34CA-6316-44C9-9F55-E82B2DE6792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Shading in Art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sphere-demo[1]"/>
          <p:cNvPicPr/>
          <p:nvPr/>
        </p:nvPicPr>
        <p:blipFill>
          <a:blip r:embed="rId1"/>
          <a:stretch/>
        </p:blipFill>
        <p:spPr>
          <a:xfrm>
            <a:off x="1371600" y="160020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Light, Shadow, Form and Textur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 and shadow helps us to see the textures and forms of obj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tists use shading to suggest form and tex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tist do not draw a huge sun in their drawing, painting, etc.. But rather they decide where the shadow and light will f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6-29-hanna1[1]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4" descr="14926112_eebcd1d3d7[1]"/>
          <p:cNvPicPr/>
          <p:nvPr/>
        </p:nvPicPr>
        <p:blipFill>
          <a:blip r:embed="rId1"/>
          <a:stretch/>
        </p:blipFill>
        <p:spPr>
          <a:xfrm>
            <a:off x="2743200" y="1600200"/>
            <a:ext cx="3657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4" descr="wang-artwork2_big[1]"/>
          <p:cNvPicPr/>
          <p:nvPr/>
        </p:nvPicPr>
        <p:blipFill>
          <a:blip r:embed="rId1"/>
          <a:stretch/>
        </p:blipFill>
        <p:spPr>
          <a:xfrm>
            <a:off x="1752480" y="1752480"/>
            <a:ext cx="57150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4" descr="horseheadshade[1]"/>
          <p:cNvPicPr/>
          <p:nvPr/>
        </p:nvPicPr>
        <p:blipFill>
          <a:blip r:embed="rId1"/>
          <a:stretch/>
        </p:blipFill>
        <p:spPr>
          <a:xfrm>
            <a:off x="3441600" y="2212920"/>
            <a:ext cx="22590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phillips_-_light_shall_prevail_the[1]"/>
          <p:cNvPicPr/>
          <p:nvPr/>
        </p:nvPicPr>
        <p:blipFill>
          <a:blip r:embed="rId1"/>
          <a:stretch/>
        </p:blipFill>
        <p:spPr>
          <a:xfrm>
            <a:off x="2681280" y="2163600"/>
            <a:ext cx="3780000" cy="25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4:39:32Z</dcterms:created>
  <dc:creator>CCRSB</dc:creator>
  <dc:description/>
  <dc:language>en-US</dc:language>
  <cp:lastModifiedBy>Mike</cp:lastModifiedBy>
  <dcterms:modified xsi:type="dcterms:W3CDTF">2012-06-29T00:56:42Z</dcterms:modified>
  <cp:revision>4</cp:revision>
  <dc:subject/>
  <dc:title>Slide 1</dc:title>
</cp:coreProperties>
</file>